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2F3-42E7-4CCE-964B-1FE22B70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215-463A-4329-9F57-812BB147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FA7-9D4E-4B8D-937C-1061CDBA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FC1-E481-4445-B9C4-00CA2ABD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024E-7280-497C-BA80-BD17D7A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93E2-4F07-4E1D-8629-CC46C546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C25-7A96-4416-897D-D742C60B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57D9-9CB8-48F7-B206-FCE66E7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1103-50CC-46D8-B661-368A45A2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1BCA-52F8-4980-A5D4-3B46B75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32AE-3564-486D-84CD-52A07BF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C7-F0CA-474B-AD10-1F0144DB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93F0-2595-4AC6-82CF-9F0BAE8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D1E2-6A03-47AA-88E1-F28007B5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7736-B312-4E65-9B5E-D12BDEA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4C3-12E7-4C90-9931-6183B74C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13C7-80BD-4802-BBDA-64A520AB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A4C-3B86-4D6F-B326-38F2D874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BA0-F29A-4BA2-8B6B-1B5F16E3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4A4-B6A5-441C-97D6-26ABC14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1A4-851B-4074-B4D7-E63E936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8B6-3A10-4160-A87B-702469E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68C-F96F-4E09-86E9-26A6A76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EB9-1EB7-4C4B-89AA-85DFCC79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696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944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112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972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624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808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736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504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952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304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92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440"/>
              <a:ext cx="7985160" cy="26528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92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256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648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9012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904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96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336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336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768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832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960"/>
              <a:ext cx="9131400" cy="295956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3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760"/>
              <a:ext cx="9131400" cy="212292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432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432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5044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24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9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6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1280"/>
              <a:ext cx="9140760" cy="2949480"/>
              <a:chOff x="0" y="259128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128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36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977-C9EC-492F-B335-47815200BF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696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944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112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972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624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808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736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504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952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304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92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440"/>
              <a:ext cx="7985160" cy="26528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92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256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648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9012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904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96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336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336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768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832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960"/>
              <a:ext cx="9131400" cy="295956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3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760"/>
              <a:ext cx="9131400" cy="212292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432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432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5044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24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9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6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1280"/>
              <a:ext cx="9140760" cy="2949480"/>
              <a:chOff x="0" y="259128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128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36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95160"/>
            <a:ext cx="823104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728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BA53-44ED-4EDF-AC2C-C8AA85DF2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2000" y="1268280"/>
            <a:ext cx="8713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УЛОГА РАЧУНОВОЂЕ И РАЧУНОВОДСТВЕНИХ ИНФИРМАЦИЈА У ПОСТУПКУ ПЛАНИРАЊА И ПРОВОЂЕЊА  ЈАВНИХ НАБА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Душко Даничић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94F-A395-4546-A529-231AA9F45D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15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настава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дефинисања критеријума за додјелу уговора - да ли да се изабере опција  "економски најповољнија понуда" или "искључиво најнижа цијена";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дефинисања информација везаних за метод и начин калкулације цијене, тако да цијена укључује све припадајуће порез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5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Дефинисање формата банковних гаранција или других одговарајућих средстава осигурања, с циљем пружања гаранције за понуду и извршење уговора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ТЕНДЕРСКА ДОКУМЕНТАЦИЈА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C71-2896-4400-922B-3D17821175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исија за набавке је строчно тијело уговорног органа које обавља повјерене послове везано за провођење јавне набавке и оцјену формалних и суштионских ставки садржаних у понуди кандидата / понуђач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скуство и стручност рачуновође може се искористити у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консултантске сврхе, неугрожавајући независност комидсије,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код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цјена економске и финансијске подобности кандидата или понуђач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Оцјене укупне понуђене цијене (да ли садржи све тражене елементе)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ЧНА ПОМОЋ КОМИСИЈИ ЗА Ј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968-6530-4E42-B1A1-611B2151A6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(НАСТАВАК) Искуство и стручност рачуновође може се искористити у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онсултантске сврх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к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цјене услова плаћања и понуђених гаранциј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авања инфомрација о евентуалним претходним искуствима са неким од понуђач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цјена достављене калкулације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ЧНА ПОМОЋ КОМИСИЈИ ЗА Ј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F21-9F41-4353-8A7A-7FFF157671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2360" y="1916280"/>
            <a:ext cx="8640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Рачуновођа може као консултант и експерт помоћи код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ОЦЈЕНЕ ДА ЛИ ПОСТОЈЕ ЕЛЕМЕНТИ НЕПРИРОДНО НИСКЕ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ОЦЈЕНЕ ДОСТАВЉЕНИХ ОБРАЗЛОЖЕЊА ТАКВЕ ЦИЈЕНЕ ОД СТРАНЕ ПОНУЂАЧ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310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ЧНА ПОМОЋ КОМИСИЈИ ЗА ЈН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Arial"/>
              </a:rPr>
              <a:t>ОЦЈЕНА НЕПРИРОДНО НИСКЕ ПОНУД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6F3-FDC7-4901-A36B-66F9520447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звршење уговора о јавним набавкама се прати (најмање) кроз два сегмент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Извршење уговорних обавеза </a:t>
            </a:r>
            <a:r>
              <a:rPr b="1" lang="ru-RU" sz="3300" spc="-1" strike="noStrike">
                <a:solidFill>
                  <a:srgbClr val="ff1111"/>
                </a:solidFill>
                <a:latin typeface="Arial"/>
              </a:rPr>
              <a:t>наручиоца</a:t>
            </a: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 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Извршење уговорних обавеза </a:t>
            </a:r>
            <a:r>
              <a:rPr b="1" lang="ru-RU" sz="33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5236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7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396-CE07-4623-825F-2127B40261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НАРУЧИОЦ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рације о роковима плаћања и да ли је добављач испунио претходне (фомралне и суштинске) услове да се доспјела обавеза измир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рације да ли очекивани прилива новчаних средстава омогућава поштовање преузетих обавез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947-6CC9-4D66-90D3-2E18333963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НАРУЧИОЦ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(НАСТАВАК)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ације о евентуалним посљедицама неизвршења појединих уговорних обавеза или кашњења у њиховом извршењ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рације које су потребне за евентуално покретање судског спора против некоректног добавља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207-9435-4A00-9C6B-1F2EB9D56A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ли су документи и исправе о извршењу појединих обавеза добављача управо они који се очекују везано за реализацију уговора о набавци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ли су исправе које је доставио добављач уредне, комплетне и довољне да се потврди настанак пословне промјене која се тим исправама желе потврдити у складу са законом и МРС / МСФИ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5236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8A6-E4D8-4059-9BAE-FB2C4986EB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(НАСТАВАК)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се потврди ходограм (рокови) извршења финансијских обавеза добављача, ако такве обавезе произилазе из уговора и начин реализације набавке (везано за деопзите, гаранције, накнаду штете, пенале, казне и др.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ли се поштује калкулација цијена по појединим ставкама јавне набавке и укупно за уговор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A88-AEB6-4076-B0F9-DD3E526CDD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(НАСТАВАК)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руги подаци неопходни да се потврди (не)уредност извршења уговорних обавеза од стране добављача и то оне које су финансијске природе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80A-761C-4965-A661-066812D1C1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2000" y="83628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ЧУНОВОДСТВ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ЈЕ СИСТЕМ ЧИЈЕ ФУНКЦИОНИСАЊЕ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ЕЗБЈЕЂУ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5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ЈЕ О ФИНАНСИЈСКОМ ПОЛОЖАЈУ, УСПЈЕШНОСТИ, ТОКОВИМА ГОТОВИНЕ, ПРОМЈЕНАМА НА ВЛАСТИТОМ КАПИТАЛУ И ДРУГИМ ФИНАНСИЈСКИМ И НЕФИНАНСИЈСКИМ ИНФОРМАЦИЈАМА ЗНАЧАЈНИМ ЗА ДОНОШЕЊЕ ОДЛУ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АСН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НИХ ОРГАНА ПОСЛОВНОГ СУБЈ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SzPct val="11215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НФОМРАЦИЈЕ КОЈЕ СЕ ПРЕЗЕНТУЈУ У ФИНАНСИЈСКИМ ИЗЈВЕШТАЈИМА ЗНАЧАЈНЕ СУ И ЗА СУБЈЕКТЕ ИЗ ОКРУЖЕЊА ЗА ДОНОШЕЊЕ ЊИХОВИХ ОДЛУКА КОЈЕ СУ У ВЕЗИ СА ПОСЛОВНИМ СУБЈЕКТОМ ИЛИ СУ ДИО РЕДОВНИХ АКТИВНОСТИ ЗАИНТЕРЕСОВАНЕ СТРАН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338-7910-473E-8F0F-C7312823E0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Кроз активно или консултантско учешће у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ПЛАНИРАЊУ ЈАВНИХ НАБАВК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ДЕФИНИСАЊУ ПОЈЕДИНИХ ЕЛЕМЕНАТА ТЕНДЕРСКЕ ДОКУМЕНТАЦИЈ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ОЦЈЕНИ НЕКИХ ЕЛЕМЕНАТА ПОВЕЗАНИХ СА КВАЛИФИКАЦИЈОМ ПОДОБНОСТИ ПОНУЂАЧА / КАНДИДА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ОЦЈЕНИ ПРОВОЂЕЊА ЈАВНЕ НАБАВКЕ И УГОВОРНИХ ОБАВЕЗ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СА АСПЕКТА УГОВОРНОГ ОРГАН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СА АСПЕКТА ДОБАВЉАЧ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ЧУНОВОЂА И РАЧУНОВОДСТВЕНЕ ИНФОМРАЦИЈЕ МОГУ БИТИ У ФУКНКЦИЈИ ПРОВОЂЕЊА ЈАВНИХ НАБАВКИ У СКЛАДУ СА ЗАКОНОМ И НАЈБОЉИМ ИНТЕРЕСУ УГОВОРНОГ ОРГ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ЗАКЉУЧ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190-6C7D-48C7-8D36-697C86569E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3104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ХВАЛА НА ПАЖЊИ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е-адреса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sko.danicic@srrrs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924-E13A-4762-B949-6A4F4B324F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2000" y="836280"/>
            <a:ext cx="8567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НОВОДСТВО ТРЕБА ДА БУДЕ ДИО ИНФОРМАЦИОНОГ СИСТЕМА ПОСЛОВНОГ СУБЈЕКТА КОЈИ УКЉУЧУЈ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SzPct val="1025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ИНПУТ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(ПОСЛОВНЕ ДОГАЂАЈЕ ИЛИ ТРАНСАКЦИЈЕ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 инпуте улазе само оне трансакције које испуњавају 4 усло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 су наста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 / или да је њихов настанак извје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 су документ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в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 су израже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у новцу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(а за потребе материјалног књиговодства и у натуралним величина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 утичу на примјену стања и кретања имовине, обавеза, капитала, прихода и рас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SzPct val="1025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РОЦЕ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прикупљање и контролу улазних информација (документације) али и креирање интерних исправа, евидентирање, класификовање, сумирање пословних догађаја (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двија се у пословним књига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310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A03-3E54-415C-9DFE-A99A58D3C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2000" y="83628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195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АУТПУТ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/ ИЗЛАЗИ – резултати процеса обраде података су финансијски извјештаји, који могу бити периодични или годишњи, опште или посебне намјене..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62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Arial"/>
              </a:rPr>
              <a:t>РАЧУНОВОДСТВО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икупља податк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Врш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брад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одатака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рхивира и чув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одатк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 документацију и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информациј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ставља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и презентује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одатк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нформациј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 и извјештај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ализира финансијски, приносни и имовински положај пословног субј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AB3-52AC-4A99-AD31-69CB3A49ED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5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АЧУНОВОДСТВЕНА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АНАЛ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е бави анализом финанцијских извјештаја што подразумијева одговор на сљедећа питања, односно процјене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а ли се погоршава или побољшава финансијски положај пословног субијек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а ли се постижу одговарајуће перформансе везано за успјешност пословања и уопште имовински и приносни положај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а ли ће пословни субјект имати способност испуњавати обвезе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тврђује односе између планираних и остварених резултат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тврђује одступање оствареног и планираног и идентификује узроке одступањ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Предлаже одређене мјере за превазилажење слабости и појединих ризика (нпр. ризика неликвидности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098-AD58-43F8-B551-516C95086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Arial"/>
              </a:rPr>
              <a:t>Јавна предузећа, органи управе, јавне установе које примјењују ЗОЈН, локална самоуправа и др. субјекти који примјењују Закон о ЈН, имају обавезу да, између осталих, планирају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риходе и расход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апиталне издатке (инвестиције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зворе финансирања инвестициј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ко је неопходно за остварење планираних циљева – узмање зајмов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гаранције чије је давање предложено за осигурање тих кредит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ПЛАНИРАЊЕ ЈАВНИХ НАБАВ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A99-A04E-46FD-82DF-91661E2854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2000" y="1125000"/>
            <a:ext cx="889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анализе приносног и финансијског положаја пословног субјекта и процјене будућих кретања долази се до закључ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лике су улагачке способности пословног субјекта из сопствених извор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је су границе задужењ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акве су реперкусије могућег задужења на ликвидност и одржавање пословних функција у планираном обиму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ји ризици се могу идентификовати код реализације појединих позиција плана јавних набав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ји обим јавних набавки је економски допустив и исплати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ПЛАНИРАЊЕ ЈАВНИХ НАБАВ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97F-8221-48E4-A585-E8770F4D20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У рачуноводственим евиденцијама и пословној документацији назазе се историјски подаци о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ретходним набавкама истоврсне нарав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ретходним набавкама сличних добара /  радова / услуг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структури нававне вриједности из претходних набав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(не)могућности раздвајања набавк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ходограму набавки (временски слијед) који је потврђен као правовањан и прихватљи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ПРОЦИЈЕЊЕНА ВРИЈЕДНОСТ</a:t>
            </a:r>
            <a:r>
              <a:rPr b="1" lang="sr-CS" sz="3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 УГОВО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198-7AFE-42EA-A145-EB7A875405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скуство и стручност рачуновође може се искористити за припрему тендерске документације и то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описа производа, услуга или радова (нпр. код набавке рачуновоственог програма или сложеног пословног инфомрационог система, потребно је консултовати рачуновођу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дефинисања критеријума избора који установљују минималне услове за квалификацију кандидата или понуђача и информације за вршење такве процјене (нпр. везано за пожељне финансијске перформансе понуђача);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ТЕНДЕРСКА ДОКУМЕНТАЦИЈА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551-E3D5-4089-840C-8E8D5C23E7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8:28:40Z</dcterms:created>
  <dc:creator>DuskoD</dc:creator>
  <dc:description/>
  <dc:language>en-US</dc:language>
  <cp:lastModifiedBy>Danicic Dusko</cp:lastModifiedBy>
  <dcterms:modified xsi:type="dcterms:W3CDTF">2011-06-22T09:47:22Z</dcterms:modified>
  <cp:revision>48</cp:revision>
  <dc:subject/>
  <dc:title>    SISTEM PRIVREDNIH I TRGOVINSKIH KOMORA I UTVR\IVAWE I PLA]AWE ^LANSKOG DOPRINOSA ZA 2003. GODINU     1. KOMORSKI SISTEM I PRAVNA REGULATIVA    Za Privrednnu komoru Republike Srpske:  - Zakon o Privrednoj komori ("Sl.glasnik RS", br. 20/92,  18/99, 51/01, 56/01, 58/01 i 39/03), - Odluka o na~inu obra~una, visini godi{we ~lanarine,  rokovima i na~inu uplate (Slu`beni glasnik  Republike  Srpske broj 80/02) i - Pravilnik o na~inu davawa informacija i potvrda o  bonitetu ~lanova Komore ("Sl.glasnik RS", br. 80/02).</dc:title>
</cp:coreProperties>
</file>